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B0D-822D-462F-BF1E-103BD3CD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869-5F10-4B2E-A45F-EA6FA294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9F1-5C58-4230-8CA9-E60335A3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E0D-0EF1-4557-857F-EB9E9A25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D31D-F9C9-46C7-A1C4-70283CBE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C84F-A0FE-4819-ADEE-E0DB07A4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179C-AD39-4D60-8B05-6E0D2076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CB3A-3723-4455-8A9C-10A40B86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D234-C730-4610-B0CF-4C994AB1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0238-6326-47E3-B318-2D2C5C1D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BBC2-E0EF-49CC-ABD5-A6943235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A72-64B3-48DD-8654-398165D8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230A-0439-4D89-B6E7-93C80EE3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3EA7-5E1B-4642-A38F-926B261A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055F-39AF-4E9C-A0C7-33B1E760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6A10-87E2-4553-B86D-8C93A681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3CF9-871A-431C-A1DD-FC314EE5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FF2-EEDD-4000-AF02-E0D390AF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A84-0736-4959-8A41-0A814C0D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B80-8DB5-45A9-B1D2-E13950EE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B23-DA23-4DBA-9DC5-4EB5749E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18D-CDFF-4142-BC08-3D324BA8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D0B-60A1-494C-9CD4-10829328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CF8-DB0A-4032-A41B-C3D2C44B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C5C6-A429-4ED4-8358-062B732315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1B49-47F9-458D-BF6F-6E941FE26C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Overtrai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0360" y="38095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. Noel McCaffr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cturer, Centre for Sport Science and Health, DCU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edical Director, O’Neills Sports Medicine, UCD &amp; DCU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mon symptoms of O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general fatig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lai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ergy (malais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thusia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rritable / restl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xio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etite chan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eight lo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cus / concent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agnostic difficult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 of exclus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ifferent symptoms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5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fferent individuals doing same same trai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5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ute vs chronic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performanc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5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olume vs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inten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5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mpathetic vs parasympathetic mode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35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durance vs ‘anaerobic’ overtrai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arasympathetic overtrai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volume overload (resistance or enduranc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estosterone : cortisol rat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tig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ath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ting H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ympathetic overtrai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intensity overlo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om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rrit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tless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lood press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veruse inju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internal 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dy ma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iomechani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utr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echniq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fatig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external 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training volu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training intens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repeti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tw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quip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causes it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balance / mismat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raining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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recove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exerci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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exercise capac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tres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</a:t>
            </a: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cc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tress toler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itiating ev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olume / intensity of trai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notony of trai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lness (disease / infec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oric restriction /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carbohydrate intak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ron deficien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ercise-heat str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sonal / emotional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ccupational str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ological mark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blood constitiu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emoglobin / hematocr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te c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r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lood lactate in submax / max exerci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stosterone / cortis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techolamines (resting / nocturn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rdiorespirat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ting / max heart r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art rate  / V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/ VE during exerci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al metabolic r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f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mmune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pper respiratory tract infection in OR / OT athleth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use or effec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auses of persistent fatigue and underperformance in spor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914400"/>
            <a:ext cx="3048120" cy="5884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ffeine withdraw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-induced asthm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on (+/- anaemi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anxie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onucleo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p. resp tract infec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od disor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xiety / depress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838080"/>
            <a:ext cx="2590920" cy="597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 comm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bte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ting disorde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othyroidis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concuss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ance abu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 resp tract inf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e effects of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s / suppl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bo / prote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914400"/>
            <a:ext cx="2590920" cy="5401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ocrine dise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drenal gla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t dise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absor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ng dise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ignanc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al dise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muscular   dise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vertrain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training / preparation challe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the overtraining syndr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 we understand the mechanism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g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eatment and preven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atigu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What is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ure to generate or maintain desired exercise inten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pheral mechanism (fuel deplet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entral mechanisms (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brain serotoni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re symptom of many illnes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Fatigue in ill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ral ill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aem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pothyroidi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poglycaem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ronic fatigue syndro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p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S and Major Depres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eral fatigue / malai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peti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rritable / restl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dy weigh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est / plea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centr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20574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eling hopeless / worthl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eling sa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sistent physical symptoms that fail to resp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icidal though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reatment and Preven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covery d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odi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arie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sure vol : intensity inverse relationshi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void high intensity over prolonged peri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void high intensity over prolonged peri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4956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resistence sessions, avoid completing every set of every exercise in every sess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void overworking one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void excess eccentric 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5943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? role for antidepressant med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76320" y="-10634760"/>
            <a:ext cx="763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52480"/>
            <a:ext cx="2590920" cy="244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ice of exerci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of exerci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ume (sets x rep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sity (% rep max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 (between set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09680"/>
            <a:ext cx="2209680" cy="1984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ur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adapt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pheral (sport specific) adapt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training (injure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828800"/>
            <a:ext cx="2361960" cy="106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d gener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spe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4114800"/>
            <a:ext cx="2819520" cy="923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ki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chnique repeti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5943600"/>
            <a:ext cx="20574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am  p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04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aining are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2670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challeng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vide continuous training stimulus with adequate variety, recovery, progression t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acilitate optimum performance at the right time(s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void OT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minimise inju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overtraining syndro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a condition characterised b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formance in training / competition (incl technical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ffort required to deliver same perform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ilure to show progression / impr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spite maintained or increased trai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vertraining process 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overtraining syndr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ther word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lenes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ver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rnou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ronic fatigu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verfatigu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verstrai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85920" y="3200400"/>
            <a:ext cx="4973760" cy="1784520"/>
          </a:xfrm>
          <a:prstGeom prst="line">
            <a:avLst/>
          </a:prstGeom>
          <a:ln w="22320">
            <a:solidFill>
              <a:srgbClr val="ff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05120" y="3200400"/>
            <a:ext cx="0" cy="2362320"/>
          </a:xfrm>
          <a:prstGeom prst="line">
            <a:avLst/>
          </a:prstGeom>
          <a:ln w="1908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76440" y="3200400"/>
            <a:ext cx="6705720" cy="0"/>
          </a:xfrm>
          <a:prstGeom prst="line">
            <a:avLst/>
          </a:prstGeom>
          <a:ln w="2232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581280"/>
            <a:ext cx="0" cy="1981440"/>
          </a:xfrm>
          <a:prstGeom prst="line">
            <a:avLst/>
          </a:prstGeom>
          <a:ln w="1908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43400" y="4038480"/>
            <a:ext cx="0" cy="1524240"/>
          </a:xfrm>
          <a:prstGeom prst="line">
            <a:avLst/>
          </a:prstGeom>
          <a:ln w="1908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576440" y="1371600"/>
            <a:ext cx="0" cy="4191120"/>
          </a:xfrm>
          <a:prstGeom prst="line">
            <a:avLst/>
          </a:prstGeom>
          <a:ln w="22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81360" y="3200400"/>
            <a:ext cx="838080" cy="977760"/>
          </a:xfrm>
          <a:custGeom>
            <a:avLst/>
            <a:gdLst/>
            <a:ahLst/>
            <a:rect l="l" t="t" r="r" b="b"/>
            <a:pathLst>
              <a:path w="528" h="616">
                <a:moveTo>
                  <a:pt x="0" y="0"/>
                </a:moveTo>
                <a:cubicBezTo>
                  <a:pt x="124" y="220"/>
                  <a:pt x="248" y="440"/>
                  <a:pt x="336" y="528"/>
                </a:cubicBezTo>
                <a:cubicBezTo>
                  <a:pt x="424" y="616"/>
                  <a:pt x="476" y="572"/>
                  <a:pt x="528" y="528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19440" y="2349360"/>
            <a:ext cx="2209680" cy="1689120"/>
          </a:xfrm>
          <a:custGeom>
            <a:avLst/>
            <a:gdLst/>
            <a:ahLst/>
            <a:rect l="l" t="t" r="r" b="b"/>
            <a:pathLst>
              <a:path w="1392" h="1064">
                <a:moveTo>
                  <a:pt x="0" y="1064"/>
                </a:moveTo>
                <a:cubicBezTo>
                  <a:pt x="340" y="684"/>
                  <a:pt x="680" y="304"/>
                  <a:pt x="912" y="152"/>
                </a:cubicBezTo>
                <a:cubicBezTo>
                  <a:pt x="1144" y="0"/>
                  <a:pt x="1268" y="76"/>
                  <a:pt x="1392" y="152"/>
                </a:cubicBezTo>
              </a:path>
            </a:pathLst>
          </a:custGeom>
          <a:noFill/>
          <a:ln w="22320">
            <a:solidFill>
              <a:srgbClr val="ffff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14720" y="2743200"/>
            <a:ext cx="2210040" cy="1689120"/>
          </a:xfrm>
          <a:custGeom>
            <a:avLst/>
            <a:gdLst/>
            <a:ahLst/>
            <a:rect l="l" t="t" r="r" b="b"/>
            <a:pathLst>
              <a:path w="1392" h="1064">
                <a:moveTo>
                  <a:pt x="0" y="1064"/>
                </a:moveTo>
                <a:cubicBezTo>
                  <a:pt x="340" y="684"/>
                  <a:pt x="680" y="304"/>
                  <a:pt x="912" y="152"/>
                </a:cubicBezTo>
                <a:cubicBezTo>
                  <a:pt x="1144" y="0"/>
                  <a:pt x="1268" y="76"/>
                  <a:pt x="1392" y="152"/>
                </a:cubicBezTo>
              </a:path>
            </a:pathLst>
          </a:custGeom>
          <a:noFill/>
          <a:ln w="22320">
            <a:solidFill>
              <a:srgbClr val="ffff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76640" y="3581280"/>
            <a:ext cx="838080" cy="978120"/>
          </a:xfrm>
          <a:custGeom>
            <a:avLst/>
            <a:gdLst/>
            <a:ahLst/>
            <a:rect l="l" t="t" r="r" b="b"/>
            <a:pathLst>
              <a:path w="528" h="616">
                <a:moveTo>
                  <a:pt x="0" y="0"/>
                </a:moveTo>
                <a:cubicBezTo>
                  <a:pt x="124" y="220"/>
                  <a:pt x="248" y="440"/>
                  <a:pt x="336" y="528"/>
                </a:cubicBezTo>
                <a:cubicBezTo>
                  <a:pt x="424" y="616"/>
                  <a:pt x="476" y="572"/>
                  <a:pt x="528" y="528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95960" y="4038480"/>
            <a:ext cx="838080" cy="978120"/>
          </a:xfrm>
          <a:custGeom>
            <a:avLst/>
            <a:gdLst/>
            <a:ahLst/>
            <a:rect l="l" t="t" r="r" b="b"/>
            <a:pathLst>
              <a:path w="528" h="616">
                <a:moveTo>
                  <a:pt x="0" y="0"/>
                </a:moveTo>
                <a:cubicBezTo>
                  <a:pt x="124" y="220"/>
                  <a:pt x="248" y="440"/>
                  <a:pt x="336" y="528"/>
                </a:cubicBezTo>
                <a:cubicBezTo>
                  <a:pt x="424" y="616"/>
                  <a:pt x="476" y="572"/>
                  <a:pt x="528" y="528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76440" y="3581280"/>
            <a:ext cx="1547640" cy="0"/>
          </a:xfrm>
          <a:prstGeom prst="line">
            <a:avLst/>
          </a:prstGeom>
          <a:ln w="22320">
            <a:solidFill>
              <a:srgbClr val="00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76440" y="4038480"/>
            <a:ext cx="2766960" cy="0"/>
          </a:xfrm>
          <a:prstGeom prst="line">
            <a:avLst/>
          </a:prstGeom>
          <a:ln w="22320">
            <a:solidFill>
              <a:srgbClr val="00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76440" y="5562720"/>
            <a:ext cx="7238880" cy="0"/>
          </a:xfrm>
          <a:prstGeom prst="line">
            <a:avLst/>
          </a:prstGeom>
          <a:ln w="22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64440" y="427824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Session 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200" y="4572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Session 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47520" y="50292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Session 3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55800" y="3177360"/>
            <a:ext cx="20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Fitness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93560" y="571500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Day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adequate reco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304920"/>
            <a:ext cx="213336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verlo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raining stimul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dequate recove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raining incre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appropriate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304920"/>
            <a:ext cx="29718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ver-reach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raining stimul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adequate recove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peated (+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) training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st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ull recovery in 2-3week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80880"/>
            <a:ext cx="297180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vertrain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raining stimul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adequate recove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peated (+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) training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o recovery with res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evalence of O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gns and symptoms of OT seen 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0% distance runners over a care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0% pro soccer players in a 5 month competitive sea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3% basketball players in a 6 week training cam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3:27:37Z</dcterms:created>
  <dc:creator>Noel McCaffrey</dc:creator>
  <dc:description/>
  <dc:language>en-US</dc:language>
  <cp:lastModifiedBy>Noel McCaffrey</cp:lastModifiedBy>
  <dcterms:modified xsi:type="dcterms:W3CDTF">2004-11-24T22:47:09Z</dcterms:modified>
  <cp:revision>21</cp:revision>
  <dc:subject/>
  <dc:title>Over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01890161</vt:r8>
  </property>
  <property fmtid="{D5CDD505-2E9C-101B-9397-08002B2CF9AE}" pid="3" name="_AuthorEmail">
    <vt:lpwstr>mccafs@eircom.net</vt:lpwstr>
  </property>
  <property fmtid="{D5CDD505-2E9C-101B-9397-08002B2CF9AE}" pid="4" name="_AuthorEmailDisplayName">
    <vt:lpwstr>Noel McCaffrey</vt:lpwstr>
  </property>
  <property fmtid="{D5CDD505-2E9C-101B-9397-08002B2CF9AE}" pid="5" name="_EmailSubject">
    <vt:lpwstr>Contact details</vt:lpwstr>
  </property>
</Properties>
</file>